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9E7-7B89-4863-8D2A-5301D589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AA3-B5BC-47CD-A2D8-10D80F954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093-CC3B-49AF-94D6-AFC01D49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8B1-4224-41B4-ADE3-3030A0E5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B46-E6EE-4F64-B7A2-F92ADE0C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8E4-AA5F-4D4C-85FE-EFBCC343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2E6-63B6-4112-AE42-5A699CBD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884-F00A-416A-BD36-0212068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283-81CF-45FB-9D19-5B04FA48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FCF-38EB-400F-88F7-0305EB7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758-1CD5-4BAB-AA43-6E76AE52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47B-A859-459E-8751-D7FF1E7F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143-5932-4C45-AFCE-7A5A26E4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D79-D347-4FDE-8F6D-F055BAB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B8A8-1607-4333-AD5A-D3F4BE26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ittany Gre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Brittany Gr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2860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Brittany Gre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14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5146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Brittany Grev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Brittany Gre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29718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6002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29718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334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049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267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200400"/>
            <a:ext cx="17524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es brittany. Yo vivo en New York City.  Tengo catorce años. Yo tengo uno hermana. Yo amo gimnásticas y música. Yo tengo cabello rojo y ojos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106668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0" y="6248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raldi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4560" y="6095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3124080" y="4038480"/>
            <a:ext cx="5029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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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pple Symbols"/>
                <a:ea typeface="Apple Symbols"/>
              </a:rPr>
              <a:t></a:t>
            </a:r>
            <a:r>
              <a:rPr b="0" lang="es-ES_tradnl" sz="12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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3124080" y="335268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oy loco ahora. Estoy enfermo porque mi hermana                           Ton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124080" y="251460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muy cansada. ¿Puedes venir mis casa mañan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?                Patrick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1 hour ago.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y es tres de Diciembre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3124080" y="48769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Hann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3124080" y="54864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124080" y="6324480"/>
            <a:ext cx="4038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ceonds ago            Octubre 22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362320" y="1905120"/>
            <a:ext cx="358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! ¿Cómo están mis amigo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10920" y="6095880"/>
            <a:ext cx="74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111"/>
          <p:cNvPicPr/>
          <p:nvPr/>
        </p:nvPicPr>
        <p:blipFill>
          <a:blip r:embed="rId1"/>
          <a:stretch/>
        </p:blipFill>
        <p:spPr>
          <a:xfrm>
            <a:off x="1981080" y="2590920"/>
            <a:ext cx="8384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0" descr="007"/>
          <p:cNvPicPr/>
          <p:nvPr/>
        </p:nvPicPr>
        <p:blipFill>
          <a:blip r:embed="rId2"/>
          <a:stretch/>
        </p:blipFill>
        <p:spPr>
          <a:xfrm>
            <a:off x="2133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956"/>
          <p:cNvPicPr/>
          <p:nvPr/>
        </p:nvPicPr>
        <p:blipFill>
          <a:blip r:embed="rId3"/>
          <a:stretch/>
        </p:blipFill>
        <p:spPr>
          <a:xfrm>
            <a:off x="2286000" y="403848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900"/>
          <p:cNvPicPr/>
          <p:nvPr/>
        </p:nvPicPr>
        <p:blipFill>
          <a:blip r:embed="rId4"/>
          <a:stretch/>
        </p:blipFill>
        <p:spPr>
          <a:xfrm>
            <a:off x="457200" y="380880"/>
            <a:ext cx="74304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387"/>
          <p:cNvPicPr/>
          <p:nvPr/>
        </p:nvPicPr>
        <p:blipFill>
          <a:blip r:embed="rId5"/>
          <a:stretch/>
        </p:blipFill>
        <p:spPr>
          <a:xfrm>
            <a:off x="2209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843"/>
          <p:cNvPicPr/>
          <p:nvPr/>
        </p:nvPicPr>
        <p:blipFill>
          <a:blip r:embed="rId6"/>
          <a:stretch/>
        </p:blipFill>
        <p:spPr>
          <a:xfrm>
            <a:off x="2362320" y="5562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945"/>
          <p:cNvPicPr/>
          <p:nvPr/>
        </p:nvPicPr>
        <p:blipFill>
          <a:blip r:embed="rId7"/>
          <a:stretch/>
        </p:blipFill>
        <p:spPr>
          <a:xfrm>
            <a:off x="2286000" y="62485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6" descr="007"/>
          <p:cNvPicPr/>
          <p:nvPr/>
        </p:nvPicPr>
        <p:blipFill>
          <a:blip r:embed="rId8"/>
          <a:stretch/>
        </p:blipFill>
        <p:spPr>
          <a:xfrm>
            <a:off x="228600" y="4572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111"/>
          <p:cNvPicPr/>
          <p:nvPr/>
        </p:nvPicPr>
        <p:blipFill>
          <a:blip r:embed="rId9"/>
          <a:stretch/>
        </p:blipFill>
        <p:spPr>
          <a:xfrm>
            <a:off x="990720" y="4572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8" descr="843"/>
          <p:cNvPicPr/>
          <p:nvPr/>
        </p:nvPicPr>
        <p:blipFill>
          <a:blip r:embed="rId10"/>
          <a:stretch/>
        </p:blipFill>
        <p:spPr>
          <a:xfrm>
            <a:off x="76320" y="548640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945"/>
          <p:cNvPicPr/>
          <p:nvPr/>
        </p:nvPicPr>
        <p:blipFill>
          <a:blip r:embed="rId11"/>
          <a:stretch/>
        </p:blipFill>
        <p:spPr>
          <a:xfrm>
            <a:off x="685800" y="5562720"/>
            <a:ext cx="61596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0" descr="956"/>
          <p:cNvPicPr/>
          <p:nvPr/>
        </p:nvPicPr>
        <p:blipFill>
          <a:blip r:embed="rId12"/>
          <a:stretch/>
        </p:blipFill>
        <p:spPr>
          <a:xfrm>
            <a:off x="1371600" y="5486400"/>
            <a:ext cx="571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8:27:28Z</dcterms:modified>
  <cp:revision>109</cp:revision>
  <dc:subject/>
  <dc:title>Profile</dc:title>
</cp:coreProperties>
</file>